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CHIMES.WAV" ContentType="audio/x-wav"/>
  <Override PartName="/ppt/media/highchime.wav" ContentType="audio/x-wav"/>
  <Override PartName="/ppt/media/WHOOSH.WAV" ContentType="audio/x-wav"/>
  <Override PartName="/ppt/media/jetflyby.wav" ContentType="audio/x-wav"/>
  <Override PartName="/ppt/media/thundr06.wav" ContentType="audio/x-wav"/>
  <Override PartName="/ppt/media/GUNSHOT.WAV" ContentType="audio/x-wav"/>
  <Override PartName="/ppt/media/zapbig0g.wav" ContentType="audio/x-wav"/>
  <Override PartName="/ppt/media/CAMERA.WAV" ContentType="audio/x-wav"/>
  <Override PartName="/ppt/media/jetflyby2.wav" ContentType="audio/x-wav"/>
  <Override PartName="/ppt/media/bserie06.wav" ContentType="audio/x-wav"/>
  <Override PartName="/ppt/media/fastcar.wav" ContentType="audio/x-wav"/>
  <Override PartName="/ppt/media/doorbl07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6AB-B797-4A97-9492-9FD33AA2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9FA-13D5-4C85-945F-0045BDA0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276-91B2-4233-931C-D08A70E7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E70-1B27-4FB0-9636-70758B7D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F55-FBF9-4C47-AE8E-BA1B941F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9E9-C26B-455D-BE1B-02DA49B0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01F-B67F-49C2-B351-892BF278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A91-812A-460B-98F2-F71C827E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407-C0F0-42D6-B561-814CA146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F68-D00F-4FF8-83EE-38CF8F5F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C8F-15CB-418D-B7B3-9A0D4275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3F6-D848-41BE-BA99-ED5BE1FA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32DA-CF8E-42DF-AD15-43FFF42D0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audio" Target="../media/jetflyby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jetflyby.wav"/><Relationship Id="rId8" Type="http://schemas.openxmlformats.org/officeDocument/2006/relationships/audio" Target="../media/jetflyby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jetflyby.wav"/><Relationship Id="rId8" Type="http://schemas.openxmlformats.org/officeDocument/2006/relationships/audio" Target="../media/jetflyby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jetflyby.wav"/><Relationship Id="rId8" Type="http://schemas.openxmlformats.org/officeDocument/2006/relationships/audio" Target="../media/jetflyby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jetflyby.wav"/><Relationship Id="rId8" Type="http://schemas.openxmlformats.org/officeDocument/2006/relationships/audio" Target="../media/jetflyby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jetflyby2.wav"/><Relationship Id="rId9" Type="http://schemas.openxmlformats.org/officeDocument/2006/relationships/audio" Target="../media/fastcar.wav"/><Relationship Id="rId10" Type="http://schemas.openxmlformats.org/officeDocument/2006/relationships/audio" Target="../media/fastcar.wav"/><Relationship Id="rId11" Type="http://schemas.openxmlformats.org/officeDocument/2006/relationships/audio" Target="../media/fastcar.wav"/><Relationship Id="rId12" Type="http://schemas.openxmlformats.org/officeDocument/2006/relationships/audio" Target="../media/fastcar.wav"/><Relationship Id="rId13" Type="http://schemas.openxmlformats.org/officeDocument/2006/relationships/audio" Target="../media/fastcar.wav"/><Relationship Id="rId14" Type="http://schemas.openxmlformats.org/officeDocument/2006/relationships/audio" Target="../media/fastcar.wav"/><Relationship Id="rId15" Type="http://schemas.openxmlformats.org/officeDocument/2006/relationships/audio" Target="../media/fastcar.wav"/><Relationship Id="rId16" Type="http://schemas.openxmlformats.org/officeDocument/2006/relationships/audio" Target="../media/doorbl07.wav"/><Relationship Id="rId17" Type="http://schemas.openxmlformats.org/officeDocument/2006/relationships/audio" Target="../media/bserie06.wav"/><Relationship Id="rId18" Type="http://schemas.openxmlformats.org/officeDocument/2006/relationships/audio" Target="../media/doorbl07.wav"/><Relationship Id="rId19" Type="http://schemas.openxmlformats.org/officeDocument/2006/relationships/audio" Target="../media/doorbl07.wav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jetflyby2.wav"/><Relationship Id="rId9" Type="http://schemas.openxmlformats.org/officeDocument/2006/relationships/audio" Target="../media/fastcar.wav"/><Relationship Id="rId10" Type="http://schemas.openxmlformats.org/officeDocument/2006/relationships/audio" Target="../media/fastcar.wav"/><Relationship Id="rId11" Type="http://schemas.openxmlformats.org/officeDocument/2006/relationships/audio" Target="../media/fastcar.wav"/><Relationship Id="rId12" Type="http://schemas.openxmlformats.org/officeDocument/2006/relationships/audio" Target="../media/fastcar.wav"/><Relationship Id="rId13" Type="http://schemas.openxmlformats.org/officeDocument/2006/relationships/audio" Target="../media/fastcar.wav"/><Relationship Id="rId14" Type="http://schemas.openxmlformats.org/officeDocument/2006/relationships/audio" Target="../media/fastcar.wav"/><Relationship Id="rId15" Type="http://schemas.openxmlformats.org/officeDocument/2006/relationships/audio" Target="../media/fastcar.wav"/><Relationship Id="rId16" Type="http://schemas.openxmlformats.org/officeDocument/2006/relationships/audio" Target="../media/fastcar.wav"/><Relationship Id="rId17" Type="http://schemas.openxmlformats.org/officeDocument/2006/relationships/audio" Target="../media/fastcar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jetflyby2.wav"/><Relationship Id="rId9" Type="http://schemas.openxmlformats.org/officeDocument/2006/relationships/audio" Target="../media/fastcar.wav"/><Relationship Id="rId10" Type="http://schemas.openxmlformats.org/officeDocument/2006/relationships/audio" Target="../media/fastcar.wav"/><Relationship Id="rId11" Type="http://schemas.openxmlformats.org/officeDocument/2006/relationships/audio" Target="../media/fastcar.wav"/><Relationship Id="rId12" Type="http://schemas.openxmlformats.org/officeDocument/2006/relationships/audio" Target="../media/fastcar.wav"/><Relationship Id="rId13" Type="http://schemas.openxmlformats.org/officeDocument/2006/relationships/audio" Target="../media/fastcar.wav"/><Relationship Id="rId14" Type="http://schemas.openxmlformats.org/officeDocument/2006/relationships/audio" Target="../media/fastcar.wav"/><Relationship Id="rId15" Type="http://schemas.openxmlformats.org/officeDocument/2006/relationships/audio" Target="../media/fastcar.wav"/><Relationship Id="rId16" Type="http://schemas.openxmlformats.org/officeDocument/2006/relationships/audio" Target="../media/fastcar.wav"/><Relationship Id="rId17" Type="http://schemas.openxmlformats.org/officeDocument/2006/relationships/audio" Target="../media/thundr06.wav"/><Relationship Id="rId18" Type="http://schemas.openxmlformats.org/officeDocument/2006/relationships/audio" Target="../media/thundr06.wav"/><Relationship Id="rId19" Type="http://schemas.openxmlformats.org/officeDocument/2006/relationships/audio" Target="../media/thundr06.wav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doorbl07.wav"/><Relationship Id="rId3" Type="http://schemas.openxmlformats.org/officeDocument/2006/relationships/audio" Target="../media/bserie06.wav"/><Relationship Id="rId4" Type="http://schemas.openxmlformats.org/officeDocument/2006/relationships/audio" Target="../media/doorbl07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doorbl07.wav"/><Relationship Id="rId3" Type="http://schemas.openxmlformats.org/officeDocument/2006/relationships/audio" Target="../media/bserie06.wav"/><Relationship Id="rId4" Type="http://schemas.openxmlformats.org/officeDocument/2006/relationships/audio" Target="../media/doorbl07.wav"/><Relationship Id="rId5" Type="http://schemas.openxmlformats.org/officeDocument/2006/relationships/audio" Target="../media/doorbl07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WHOOSH.WAV"/><Relationship Id="rId5" Type="http://schemas.openxmlformats.org/officeDocument/2006/relationships/audio" Target="../media/highchime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jetflyby.wav"/><Relationship Id="rId9" Type="http://schemas.openxmlformats.org/officeDocument/2006/relationships/audio" Target="../media/jetflyby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jetflyby.wav"/><Relationship Id="rId8" Type="http://schemas.openxmlformats.org/officeDocument/2006/relationships/audio" Target="../media/jetflyby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8                                Trans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_______________is a change of position or size of a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14400" y="914400"/>
            <a:ext cx="2448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ansfor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4419720"/>
            <a:ext cx="1447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lide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19520" y="4419720"/>
            <a:ext cx="1800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anslation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animMotion origin="layout" path="M 0 0 L 0.25 0 E">
                                      <p:cBhvr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719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endpoints of a segment and a translation are given. Graph each segment and its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676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5.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0, 0),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2, 0);  4 units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905120" y="2590920"/>
            <a:ext cx="3885840" cy="3885840"/>
            <a:chOff x="1905120" y="2590920"/>
            <a:chExt cx="3885840" cy="3885840"/>
          </a:xfrm>
        </p:grpSpPr>
        <p:sp>
          <p:nvSpPr>
            <p:cNvPr id="241" name=""/>
            <p:cNvSpPr/>
            <p:nvPr/>
          </p:nvSpPr>
          <p:spPr>
            <a:xfrm>
              <a:off x="1905120" y="259092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8200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59600" y="2590920"/>
              <a:ext cx="38808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3648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137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051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05120" y="29793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05120" y="336816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05120" y="37566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05120" y="41454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05120" y="453420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05120" y="49222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5120" y="53110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5120" y="569988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5120" y="60879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443400" y="2392200"/>
            <a:ext cx="0" cy="4281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12880" y="4137120"/>
            <a:ext cx="4281480" cy="1404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54480" y="406404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60880" y="405288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54480" y="406404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60880" y="405288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animMotion origin="layout" path="M -8.33333E-007 1.79191E-006 L 0.00156 0.2252 E">
                                      <p:cBhvr>
                                        <p:cTn id="446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animMotion origin="layout" path="M 4.72222E-006 2.89017E-007 L 0.00017 0.22936 E">
                                      <p:cBhvr>
                                        <p:cTn id="448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719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endpoints of a segment and a translation are given. Graph each segment and its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1676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6.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0, 0),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- 4, 0);  4 units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905120" y="2590920"/>
            <a:ext cx="3885840" cy="3885840"/>
            <a:chOff x="1905120" y="2590920"/>
            <a:chExt cx="3885840" cy="3885840"/>
          </a:xfrm>
        </p:grpSpPr>
        <p:sp>
          <p:nvSpPr>
            <p:cNvPr id="266" name=""/>
            <p:cNvSpPr/>
            <p:nvPr/>
          </p:nvSpPr>
          <p:spPr>
            <a:xfrm>
              <a:off x="1905120" y="259092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8200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59600" y="2590920"/>
              <a:ext cx="38808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3648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137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51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05120" y="29793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05120" y="336816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5120" y="37566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05120" y="41454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05120" y="453420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05120" y="49222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05120" y="53110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05120" y="569988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05120" y="60879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4241880" y="2401920"/>
            <a:ext cx="0" cy="4281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14680" y="4919760"/>
            <a:ext cx="4281480" cy="1404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85880" y="484668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62320" y="483552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85880" y="484668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62320" y="483552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animMotion origin="layout" path="M -3.05556E-006 3.3526E-006 L 0.00157 -0.22729 E">
                                      <p:cBhvr>
                                        <p:cTn id="488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animMotion origin="layout" path="M 1.11111E-006 1.84971E-006 L 0.00017 -0.2252 E">
                                      <p:cBhvr>
                                        <p:cTn id="490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719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endpoints of a segment and a translation are given. Graph each segment and its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1676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7.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J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0, 0),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5, 5);  1 units r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905120" y="2590920"/>
            <a:ext cx="3885840" cy="3885840"/>
            <a:chOff x="1905120" y="2590920"/>
            <a:chExt cx="3885840" cy="3885840"/>
          </a:xfrm>
        </p:grpSpPr>
        <p:sp>
          <p:nvSpPr>
            <p:cNvPr id="291" name=""/>
            <p:cNvSpPr/>
            <p:nvPr/>
          </p:nvSpPr>
          <p:spPr>
            <a:xfrm>
              <a:off x="1905120" y="259092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8200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59600" y="2590920"/>
              <a:ext cx="38808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3648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137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51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05120" y="29793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05120" y="336816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05120" y="37566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05120" y="41454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5120" y="453420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05120" y="49222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110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05120" y="569988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60879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681280" y="2392200"/>
            <a:ext cx="0" cy="4281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12880" y="5675400"/>
            <a:ext cx="4281480" cy="1404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92360" y="56023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56160" y="36655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2360" y="56023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56160" y="36655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animMotion origin="layout" path="M 2.5E-006 -4.45087E-006 L 0.04201 -4.45087E-006 E">
                                      <p:cBhvr>
                                        <p:cTn id="530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animMotion origin="layout" path="M -4.44444E-006 -3.52601E-006 L 0.04046 -3.52601E-006 E">
                                      <p:cBhvr>
                                        <p:cTn id="532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719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endpoints of a segment and a translation are given. Graph each segment and its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1676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8.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- 1, 3),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2, 1);  5 units le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905120" y="2590920"/>
            <a:ext cx="3885840" cy="3885840"/>
            <a:chOff x="1905120" y="2590920"/>
            <a:chExt cx="3885840" cy="3885840"/>
          </a:xfrm>
        </p:grpSpPr>
        <p:sp>
          <p:nvSpPr>
            <p:cNvPr id="316" name=""/>
            <p:cNvSpPr/>
            <p:nvPr/>
          </p:nvSpPr>
          <p:spPr>
            <a:xfrm>
              <a:off x="1905120" y="259092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8200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59600" y="2590920"/>
              <a:ext cx="38808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3648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137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051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05120" y="29793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05120" y="336816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5120" y="37566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05120" y="41454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05120" y="453420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05120" y="49222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05120" y="53110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05120" y="569988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05120" y="60879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624560" y="2392200"/>
            <a:ext cx="0" cy="4281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12880" y="5675400"/>
            <a:ext cx="4281480" cy="1404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54400" y="445932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0880" y="524196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54400" y="445932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0880" y="524196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animMotion origin="layout" path="M -8.33333E-007 -4.62428E-007 L -0.21024 -4.62428E-007 E">
                                      <p:cBhvr>
                                        <p:cTn id="572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animMotion origin="layout" path="M 3.33333E-006 1.09827E-006 L -0.21354 -0.00208 E">
                                      <p:cBhvr>
                                        <p:cTn id="574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7192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rite a rule to describe each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1040" y="16621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9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752480" y="1523880"/>
            <a:ext cx="4911840" cy="4035600"/>
            <a:chOff x="1752480" y="1523880"/>
            <a:chExt cx="4911840" cy="4035600"/>
          </a:xfrm>
        </p:grpSpPr>
        <p:sp>
          <p:nvSpPr>
            <p:cNvPr id="341" name=""/>
            <p:cNvSpPr/>
            <p:nvPr/>
          </p:nvSpPr>
          <p:spPr>
            <a:xfrm>
              <a:off x="264636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40240" y="1533600"/>
              <a:ext cx="44748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35560" y="1533600"/>
              <a:ext cx="4460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2908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5248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52480" y="1533600"/>
              <a:ext cx="49118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52480" y="1979640"/>
              <a:ext cx="4024440" cy="44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52480" y="242712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52480" y="287496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52480" y="332100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52480" y="376884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52480" y="4214880"/>
              <a:ext cx="4911840" cy="44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52480" y="466236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52480" y="510840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13600" y="1523880"/>
              <a:ext cx="447480" cy="403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421160" y="1311120"/>
            <a:ext cx="0" cy="444672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47640" y="4226040"/>
            <a:ext cx="5310360" cy="46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41960" y="367200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48440" y="36799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00600" y="234324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8360" y="2424240"/>
            <a:ext cx="1335240" cy="133488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0" y="0"/>
                </a:moveTo>
                <a:lnTo>
                  <a:pt x="283" y="841"/>
                </a:lnTo>
                <a:lnTo>
                  <a:pt x="841" y="841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05280" y="367200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49880" y="195264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73920" y="369252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134040" y="366408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40160" y="367200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92680" y="23353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70440" y="2416320"/>
            <a:ext cx="1335240" cy="133488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0" y="0"/>
                </a:moveTo>
                <a:lnTo>
                  <a:pt x="283" y="841"/>
                </a:lnTo>
                <a:lnTo>
                  <a:pt x="841" y="841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754520" y="372096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41960" y="194472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66000" y="36846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400040" y="5711760"/>
                <a:ext cx="15098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398840" y="5718240"/>
                <a:ext cx="24973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374" name=""/>
          <p:cNvCxnSpPr/>
          <p:nvPr/>
        </p:nvCxnSpPr>
        <p:spPr>
          <a:xfrm>
            <a:off x="2909880" y="6149880"/>
            <a:ext cx="1489680" cy="720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072120" y="5913360"/>
                <a:ext cx="5731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61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3000"/>
                            </p:stCondLst>
                            <p:childTnLst>
                              <p:par>
                                <p:cTn id="62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000"/>
                            </p:stCondLst>
                            <p:childTnLst>
                              <p:par>
                                <p:cTn id="6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fastcar.wav"/>
                                        </p:tgtEl>
                                      </p:cMediaNode>
                                    </p:audio>
                                    <p:animMotion origin="layout" path="M -3.88889E-006 -2.31214E-006 L -0.29288 -2.31214E-006 E">
                                      <p:cBhvr>
                                        <p:cTn id="642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fastcar.wav"/>
                                        </p:tgtEl>
                                      </p:cMediaNode>
                                    </p:audio>
                                    <p:animMotion origin="layout" path="M -8.33333E-007 1.6185E-006 L -0.29288 1.6185E-006 E">
                                      <p:cBhvr>
                                        <p:cTn id="644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fastcar.wav"/>
                                        </p:tgtEl>
                                      </p:cMediaNode>
                                    </p:audio>
                                    <p:animMotion origin="layout" path="M -2.5E-006 3.69942E-006 L -0.29132 3.69942E-006 E">
                                      <p:cBhvr>
                                        <p:cTn id="646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fastcar.wav"/>
                                        </p:tgtEl>
                                      </p:cMediaNode>
                                    </p:audio>
                                    <p:animMotion origin="layout" path="M 4.44444E-006 2.65896E-006 L -0.28976 2.65896E-006 E">
                                      <p:cBhvr>
                                        <p:cTn id="648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astcar.wav"/>
                                        </p:tgtEl>
                                      </p:cMediaNode>
                                    </p:audio>
                                    <p:animMotion origin="layout" path="M -4.16667E-006 -3.17919E-006 L -0.28802 -3.17919E-006 E">
                                      <p:cBhvr>
                                        <p:cTn id="650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car.wav"/>
                                        </p:tgtEl>
                                      </p:cMediaNode>
                                    </p:audio>
                                    <p:animMotion origin="layout" path="M 4.72222E-006 -4.85549E-006 L -0.29289 -4.85549E-006 E">
                                      <p:cBhvr>
                                        <p:cTn id="65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car.wav"/>
                                        </p:tgtEl>
                                      </p:cMediaNode>
                                    </p:audio>
                                    <p:animMotion origin="layout" path="M 3.05556E-006 4.73988E-006 L -0.29288 4.73988E-006 E">
                                      <p:cBhvr>
                                        <p:cTn id="654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7192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rite a rule to describe each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1040" y="16621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0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752480" y="1523880"/>
            <a:ext cx="4911840" cy="4035600"/>
            <a:chOff x="1752480" y="1523880"/>
            <a:chExt cx="4911840" cy="4035600"/>
          </a:xfrm>
        </p:grpSpPr>
        <p:sp>
          <p:nvSpPr>
            <p:cNvPr id="380" name=""/>
            <p:cNvSpPr/>
            <p:nvPr/>
          </p:nvSpPr>
          <p:spPr>
            <a:xfrm>
              <a:off x="264636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40240" y="1533600"/>
              <a:ext cx="44748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35560" y="1533600"/>
              <a:ext cx="4460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2908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5248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52480" y="1533600"/>
              <a:ext cx="49118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52480" y="1979640"/>
              <a:ext cx="4024440" cy="44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52480" y="242712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287496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52480" y="332100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52480" y="376884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52480" y="4214880"/>
              <a:ext cx="4911840" cy="44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52480" y="466236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52480" y="510840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13600" y="1523880"/>
              <a:ext cx="447480" cy="403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3535200" y="1325520"/>
            <a:ext cx="0" cy="444672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76440" y="3760920"/>
            <a:ext cx="5310000" cy="46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91240" y="500868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62480" y="5014800"/>
            <a:ext cx="160200" cy="16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65360" y="412920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33640" y="373068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9880" y="37386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94400" y="505764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59200" y="503568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400040" y="5711760"/>
                <a:ext cx="15098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424400" y="5718240"/>
                <a:ext cx="24462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406" name=""/>
          <p:cNvCxnSpPr/>
          <p:nvPr/>
        </p:nvCxnSpPr>
        <p:spPr>
          <a:xfrm>
            <a:off x="2909880" y="6149880"/>
            <a:ext cx="1489680" cy="720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235480" y="5780160"/>
                <a:ext cx="14065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4782960" y="413064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41680" y="4210200"/>
            <a:ext cx="3135240" cy="885600"/>
          </a:xfrm>
          <a:custGeom>
            <a:avLst/>
            <a:gdLst/>
            <a:ahLst/>
            <a:rect l="l" t="t" r="r" b="b"/>
            <a:pathLst>
              <a:path w="1975" h="558">
                <a:moveTo>
                  <a:pt x="0" y="0"/>
                </a:moveTo>
                <a:lnTo>
                  <a:pt x="1408" y="0"/>
                </a:lnTo>
                <a:lnTo>
                  <a:pt x="1975" y="558"/>
                </a:lnTo>
                <a:lnTo>
                  <a:pt x="558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84760" y="500076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56000" y="5006880"/>
            <a:ext cx="160200" cy="16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58880" y="412128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27160" y="372276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373068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87920" y="504972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52720" y="502776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76840" y="41227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35200" y="4202280"/>
            <a:ext cx="3135240" cy="885600"/>
          </a:xfrm>
          <a:custGeom>
            <a:avLst/>
            <a:gdLst/>
            <a:ahLst/>
            <a:rect l="l" t="t" r="r" b="b"/>
            <a:pathLst>
              <a:path w="1975" h="558">
                <a:moveTo>
                  <a:pt x="0" y="0"/>
                </a:moveTo>
                <a:lnTo>
                  <a:pt x="1408" y="0"/>
                </a:lnTo>
                <a:lnTo>
                  <a:pt x="1975" y="558"/>
                </a:lnTo>
                <a:lnTo>
                  <a:pt x="558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4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500"/>
                            </p:stCondLst>
                            <p:childTnLst>
                              <p:par>
                                <p:cTn id="70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30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500"/>
                            </p:stCondLst>
                            <p:childTnLst>
                              <p:par>
                                <p:cTn id="7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3500"/>
                            </p:stCondLst>
                            <p:childTnLst>
                              <p:par>
                                <p:cTn id="718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0"/>
                            </p:stCondLst>
                            <p:childTnLst>
                              <p:par>
                                <p:cTn id="7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42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44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46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48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50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52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54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56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animMotion origin="layout" path="M 0 0 L 0 -0.25988 E">
                                      <p:cBhvr>
                                        <p:cTn id="758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641680" y="2424240"/>
            <a:ext cx="1334880" cy="885600"/>
          </a:xfrm>
          <a:custGeom>
            <a:avLst/>
            <a:gdLst/>
            <a:ahLst/>
            <a:rect l="l" t="t" r="r" b="b"/>
            <a:pathLst>
              <a:path w="841" h="558">
                <a:moveTo>
                  <a:pt x="0" y="0"/>
                </a:moveTo>
                <a:lnTo>
                  <a:pt x="841" y="0"/>
                </a:lnTo>
                <a:lnTo>
                  <a:pt x="841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33760" y="2416320"/>
            <a:ext cx="1334880" cy="885600"/>
          </a:xfrm>
          <a:custGeom>
            <a:avLst/>
            <a:gdLst/>
            <a:ahLst/>
            <a:rect l="l" t="t" r="r" b="b"/>
            <a:pathLst>
              <a:path w="841" h="558">
                <a:moveTo>
                  <a:pt x="0" y="0"/>
                </a:moveTo>
                <a:lnTo>
                  <a:pt x="841" y="0"/>
                </a:lnTo>
                <a:lnTo>
                  <a:pt x="841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752480" y="1523880"/>
            <a:ext cx="4911840" cy="4035600"/>
            <a:chOff x="1752480" y="1523880"/>
            <a:chExt cx="4911840" cy="4035600"/>
          </a:xfrm>
        </p:grpSpPr>
        <p:sp>
          <p:nvSpPr>
            <p:cNvPr id="422" name=""/>
            <p:cNvSpPr/>
            <p:nvPr/>
          </p:nvSpPr>
          <p:spPr>
            <a:xfrm>
              <a:off x="264636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40240" y="1533600"/>
              <a:ext cx="44748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35560" y="1533600"/>
              <a:ext cx="4460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2908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52480" y="1533600"/>
              <a:ext cx="447840" cy="402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52480" y="1533600"/>
              <a:ext cx="49118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52480" y="1979640"/>
              <a:ext cx="4024440" cy="44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52480" y="242712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52480" y="287496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52480" y="332100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52480" y="376884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52480" y="4214880"/>
              <a:ext cx="4911840" cy="44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52480" y="4662360"/>
              <a:ext cx="402444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52480" y="5108400"/>
              <a:ext cx="491184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13600" y="1523880"/>
              <a:ext cx="447480" cy="403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7192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rite a rule to describe each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1040" y="16621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1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48160" y="1325520"/>
            <a:ext cx="0" cy="444672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47640" y="2874960"/>
            <a:ext cx="5310360" cy="46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90880" y="3224160"/>
            <a:ext cx="160560" cy="16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62120" y="323064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65360" y="234324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33640" y="195912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4760" y="194004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06680" y="325584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087640" y="325116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1400040" y="5711760"/>
                <a:ext cx="15098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4371840" y="5718240"/>
                <a:ext cx="32781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451" name=""/>
          <p:cNvCxnSpPr/>
          <p:nvPr/>
        </p:nvCxnSpPr>
        <p:spPr>
          <a:xfrm>
            <a:off x="2909520" y="6149880"/>
            <a:ext cx="1462680" cy="720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6059520" y="5765760"/>
                <a:ext cx="1353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897360" y="234648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82960" y="321624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54200" y="322272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57440" y="23353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25720" y="19512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76840" y="193212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62480" y="326088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79720" y="324324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9440" y="233856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4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000"/>
                            </p:stCondLst>
                            <p:childTnLst>
                              <p:par>
                                <p:cTn id="8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2500"/>
                            </p:stCondLst>
                            <p:childTnLst>
                              <p:par>
                                <p:cTn id="8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3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500"/>
                            </p:stCondLst>
                            <p:childTnLst>
                              <p:par>
                                <p:cTn id="82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0"/>
                            </p:stCondLst>
                            <p:childTnLst>
                              <p:par>
                                <p:cTn id="82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500"/>
                            </p:stCondLst>
                            <p:childTnLst>
                              <p:par>
                                <p:cTn id="8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49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51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53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55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57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59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61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63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fastcar.wav"/>
                                        </p:tgtEl>
                                      </p:cMediaNode>
                                    </p:audio>
                                    <p:animMotion origin="layout" path="M 0 0 L 0.1967 0.00208 L 0.1967 0.19653 E">
                                      <p:cBhvr>
                                        <p:cTn id="865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8                                Trans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838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_______________is a change of position or size of a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914400"/>
            <a:ext cx="2448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ansfor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914400" y="4266360"/>
            <a:ext cx="1752480" cy="205740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800600" y="4343400"/>
            <a:ext cx="15908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flection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05320" y="4343400"/>
            <a:ext cx="704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flip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8                                Trans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838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_______________is a change of position or size of a fig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914400"/>
            <a:ext cx="2448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ansforma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34120" y="2057400"/>
            <a:ext cx="704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urn</a:t>
            </a:r>
            <a:endParaRPr b="0" lang="en-US" sz="2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410080" y="2971800"/>
            <a:ext cx="1305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otation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981080"/>
            <a:ext cx="1752480" cy="2210040"/>
          </a:xfrm>
          <a:prstGeom prst="lightningBol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14040" y="1981080"/>
            <a:ext cx="3505320" cy="4419360"/>
            <a:chOff x="914040" y="1981080"/>
            <a:chExt cx="3505320" cy="4419360"/>
          </a:xfrm>
        </p:grpSpPr>
        <p:sp>
          <p:nvSpPr>
            <p:cNvPr id="64" name=""/>
            <p:cNvSpPr/>
            <p:nvPr/>
          </p:nvSpPr>
          <p:spPr>
            <a:xfrm rot="10800000">
              <a:off x="2666520" y="4190760"/>
              <a:ext cx="1752840" cy="2209680"/>
            </a:xfrm>
            <a:prstGeom prst="lightningBol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685440" y="2209680"/>
              <a:ext cx="22096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8                                Trans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88596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1. Graph the image of  </a:t>
            </a:r>
            <a:r>
              <a:rPr b="1" lang="en-US" sz="3200" spc="-1" strike="noStrike">
                <a:solidFill>
                  <a:srgbClr val="cc3300"/>
                </a:solidFill>
                <a:latin typeface="Wingdings 3"/>
                <a:ea typeface="Wingdings 3"/>
              </a:rPr>
              <a:t>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BCD after a translation of 3 units to the left and 4 unit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211480" y="2257560"/>
            <a:ext cx="4122360" cy="4122360"/>
            <a:chOff x="2211480" y="2257560"/>
            <a:chExt cx="4122360" cy="4122360"/>
          </a:xfrm>
        </p:grpSpPr>
        <p:sp>
          <p:nvSpPr>
            <p:cNvPr id="69" name=""/>
            <p:cNvSpPr/>
            <p:nvPr/>
          </p:nvSpPr>
          <p:spPr>
            <a:xfrm>
              <a:off x="2211480" y="22575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3552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60280" y="225756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846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090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114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11480" y="2669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11480" y="30823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11480" y="3494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11480" y="3906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11480" y="43189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11480" y="4730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11480" y="5143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1480" y="55555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11480" y="59677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267080" y="20606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17800" y="4324320"/>
            <a:ext cx="451332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00440" y="3830760"/>
            <a:ext cx="14472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40280" y="383688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33840" y="258912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73520" y="2655720"/>
            <a:ext cx="1233720" cy="1248120"/>
          </a:xfrm>
          <a:custGeom>
            <a:avLst/>
            <a:gdLst/>
            <a:ahLst/>
            <a:rect l="l" t="t" r="r" b="b"/>
            <a:pathLst>
              <a:path w="777" h="786">
                <a:moveTo>
                  <a:pt x="0" y="786"/>
                </a:moveTo>
                <a:lnTo>
                  <a:pt x="777" y="786"/>
                </a:lnTo>
                <a:lnTo>
                  <a:pt x="521" y="0"/>
                </a:lnTo>
                <a:lnTo>
                  <a:pt x="0" y="786"/>
                </a:lnTo>
                <a:close/>
              </a:path>
            </a:pathLst>
          </a:custGeom>
          <a:solidFill>
            <a:srgbClr val="00cc99">
              <a:alpha val="30000"/>
            </a:srgbClr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63840" y="383868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03680" y="384480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7240" y="259704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2480" y="2664000"/>
            <a:ext cx="1233360" cy="1247760"/>
          </a:xfrm>
          <a:custGeom>
            <a:avLst/>
            <a:gdLst/>
            <a:ahLst/>
            <a:rect l="l" t="t" r="r" b="b"/>
            <a:pathLst>
              <a:path w="777" h="786">
                <a:moveTo>
                  <a:pt x="0" y="786"/>
                </a:moveTo>
                <a:lnTo>
                  <a:pt x="777" y="786"/>
                </a:lnTo>
                <a:lnTo>
                  <a:pt x="521" y="0"/>
                </a:lnTo>
                <a:lnTo>
                  <a:pt x="0" y="786"/>
                </a:lnTo>
                <a:close/>
              </a:path>
            </a:pathLst>
          </a:custGeom>
          <a:solidFill>
            <a:srgbClr val="00cc99">
              <a:alpha val="30000"/>
            </a:srgbClr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97320" y="383220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22960" y="222876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40560" y="380988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34160" y="382572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82104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05400" y="257976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70280" y="2646360"/>
            <a:ext cx="1233720" cy="1247760"/>
          </a:xfrm>
          <a:custGeom>
            <a:avLst/>
            <a:gdLst/>
            <a:ahLst/>
            <a:rect l="l" t="t" r="r" b="b"/>
            <a:pathLst>
              <a:path w="777" h="786">
                <a:moveTo>
                  <a:pt x="0" y="786"/>
                </a:moveTo>
                <a:lnTo>
                  <a:pt x="777" y="786"/>
                </a:lnTo>
                <a:lnTo>
                  <a:pt x="521" y="0"/>
                </a:lnTo>
                <a:lnTo>
                  <a:pt x="0" y="786"/>
                </a:lnTo>
                <a:close/>
              </a:path>
            </a:pathLst>
          </a:custGeom>
          <a:solidFill>
            <a:srgbClr val="00cc99">
              <a:alpha val="30000"/>
            </a:srgbClr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65600" y="551016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86400" y="550404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28880" y="389088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fastcar.wav"/>
                                        </p:tgtEl>
                                      </p:cMediaNode>
                                    </p:audio>
                                    <p:animMotion origin="layout" path="M -3.33333E-006 -4.45087E-006 L -0.13732 -4.45087E-006 E">
                                      <p:cBhvr>
                                        <p:cTn id="13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fastcar.wav"/>
                                        </p:tgtEl>
                                      </p:cMediaNode>
                                    </p:audio>
                                    <p:animMotion origin="layout" path="M 2.5E-006 -3.69942E-006 L -0.13403 -3.69942E-006 E">
                                      <p:cBhvr>
                                        <p:cTn id="13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fastcar.wav"/>
                                        </p:tgtEl>
                                      </p:cMediaNode>
                                    </p:audio>
                                    <p:animMotion origin="layout" path="M 0.00174 -0.00092 L -0.13559 -0.00092 E">
                                      <p:cBhvr>
                                        <p:cTn id="13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fastcar.wav"/>
                                        </p:tgtEl>
                                      </p:cMediaNode>
                                    </p:audio>
                                    <p:animMotion origin="layout" path="M -2.22222E-006 2.13873E-006 L -0.13576 2.13873E-006 E">
                                      <p:cBhvr>
                                        <p:cTn id="13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astcar.wav"/>
                                        </p:tgtEl>
                                      </p:cMediaNode>
                                    </p:audio>
                                    <p:animMotion origin="layout" path="M -0.0033 -0.00116 L -0.0033 0.23676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car.wav"/>
                                        </p:tgtEl>
                                      </p:cMediaNode>
                                    </p:audio>
                                    <p:animMotion origin="layout" path="M 2.5E-006 -3.69942E-006 L 2.5E-006 0.24 E">
                                      <p:cBhvr>
                                        <p:cTn id="16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car.wav"/>
                                        </p:tgtEl>
                                      </p:cMediaNode>
                                    </p:audio>
                                    <p:animMotion origin="layout" path="M 0.00121 -0.00116 L 0.00121 0.23676 E">
                                      <p:cBhvr>
                                        <p:cTn id="16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astcar.wav"/>
                                        </p:tgtEl>
                                      </p:cMediaNode>
                                    </p:audio>
                                    <p:animMotion origin="layout" path="M -0.00208 -0.00116 L -0.00208 0.24092 E">
                                      <p:cBhvr>
                                        <p:cTn id="16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hundr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hundr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hundr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8                                Trans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841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2. Use arrow notation to describe the transformation of C to C</a:t>
            </a:r>
            <a:r>
              <a:rPr b="1" lang="en-US" sz="2800" spc="-1" strike="noStrike">
                <a:solidFill>
                  <a:srgbClr val="cc3300"/>
                </a:solidFill>
                <a:latin typeface="Book Antiqua"/>
              </a:rPr>
              <a:t>’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11480" y="2257560"/>
            <a:ext cx="4122360" cy="4122360"/>
            <a:chOff x="2211480" y="2257560"/>
            <a:chExt cx="4122360" cy="4122360"/>
          </a:xfrm>
        </p:grpSpPr>
        <p:sp>
          <p:nvSpPr>
            <p:cNvPr id="107" name=""/>
            <p:cNvSpPr/>
            <p:nvPr/>
          </p:nvSpPr>
          <p:spPr>
            <a:xfrm>
              <a:off x="2211480" y="22575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3552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60280" y="225756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846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090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114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11480" y="2669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11480" y="30823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11480" y="3494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11480" y="3906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11480" y="43189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1480" y="4730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11480" y="5143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11480" y="55555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1480" y="59677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267080" y="20606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17800" y="4324320"/>
            <a:ext cx="451332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3830760"/>
            <a:ext cx="14472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40280" y="383688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33840" y="258912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2655720"/>
            <a:ext cx="1233720" cy="1248120"/>
          </a:xfrm>
          <a:custGeom>
            <a:avLst/>
            <a:gdLst/>
            <a:ahLst/>
            <a:rect l="l" t="t" r="r" b="b"/>
            <a:pathLst>
              <a:path w="777" h="786">
                <a:moveTo>
                  <a:pt x="0" y="786"/>
                </a:moveTo>
                <a:lnTo>
                  <a:pt x="777" y="786"/>
                </a:lnTo>
                <a:lnTo>
                  <a:pt x="521" y="0"/>
                </a:lnTo>
                <a:lnTo>
                  <a:pt x="0" y="786"/>
                </a:lnTo>
                <a:close/>
              </a:path>
            </a:pathLst>
          </a:custGeom>
          <a:solidFill>
            <a:srgbClr val="00cc99">
              <a:alpha val="30000"/>
            </a:srgbClr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63840" y="548964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03680" y="384480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7240" y="424800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33680" y="4284720"/>
            <a:ext cx="1233720" cy="1247760"/>
          </a:xfrm>
          <a:custGeom>
            <a:avLst/>
            <a:gdLst/>
            <a:ahLst/>
            <a:rect l="l" t="t" r="r" b="b"/>
            <a:pathLst>
              <a:path w="777" h="786">
                <a:moveTo>
                  <a:pt x="0" y="786"/>
                </a:moveTo>
                <a:lnTo>
                  <a:pt x="777" y="786"/>
                </a:lnTo>
                <a:lnTo>
                  <a:pt x="521" y="0"/>
                </a:lnTo>
                <a:lnTo>
                  <a:pt x="0" y="786"/>
                </a:lnTo>
                <a:close/>
              </a:path>
            </a:pathLst>
          </a:custGeom>
          <a:solidFill>
            <a:srgbClr val="00cc99">
              <a:alpha val="30000"/>
            </a:srgbClr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97320" y="383220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2960" y="222876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40560" y="380988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547200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65600" y="551016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86400" y="550404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28880" y="389088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78000" y="1330200"/>
                <a:ext cx="18734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272200" y="1336680"/>
                <a:ext cx="20286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41" name=""/>
          <p:cNvCxnSpPr/>
          <p:nvPr/>
        </p:nvCxnSpPr>
        <p:spPr>
          <a:xfrm>
            <a:off x="4051080" y="1768320"/>
            <a:ext cx="1221480" cy="720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8                                Trans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841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3. Write a rule to describe the translation of </a:t>
            </a:r>
            <a:r>
              <a:rPr b="1" lang="en-US" sz="3200" spc="-1" strike="noStrike">
                <a:solidFill>
                  <a:srgbClr val="cc3300"/>
                </a:solidFill>
                <a:latin typeface="Wingdings 3"/>
                <a:ea typeface="Wingdings 3"/>
              </a:rPr>
              <a:t>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CD to </a:t>
            </a:r>
            <a:r>
              <a:rPr b="1" lang="en-US" sz="3200" spc="-1" strike="noStrike">
                <a:solidFill>
                  <a:srgbClr val="cc3300"/>
                </a:solidFill>
                <a:latin typeface="Wingdings 3"/>
                <a:ea typeface="Wingdings 3"/>
              </a:rPr>
              <a:t>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cc3300"/>
                </a:solidFill>
                <a:latin typeface="Book Antiqua"/>
                <a:ea typeface="Times New Roman"/>
              </a:rPr>
              <a:t>’C’D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11480" y="2257560"/>
            <a:ext cx="4122360" cy="4122360"/>
            <a:chOff x="2211480" y="2257560"/>
            <a:chExt cx="4122360" cy="4122360"/>
          </a:xfrm>
        </p:grpSpPr>
        <p:sp>
          <p:nvSpPr>
            <p:cNvPr id="145" name=""/>
            <p:cNvSpPr/>
            <p:nvPr/>
          </p:nvSpPr>
          <p:spPr>
            <a:xfrm>
              <a:off x="2211480" y="22575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3552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60280" y="2257560"/>
              <a:ext cx="41184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846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090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11480" y="2257560"/>
              <a:ext cx="412200" cy="412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11480" y="2669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1480" y="30823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11480" y="34941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11480" y="39063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11480" y="43189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11480" y="473076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11480" y="51433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11480" y="5555520"/>
              <a:ext cx="4122360" cy="41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1480" y="5967720"/>
              <a:ext cx="4122360" cy="41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267080" y="2060640"/>
            <a:ext cx="0" cy="4470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17800" y="4324320"/>
            <a:ext cx="4513320" cy="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00440" y="3830760"/>
            <a:ext cx="14472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40280" y="383688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33840" y="258912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73520" y="2655720"/>
            <a:ext cx="1233720" cy="1248120"/>
          </a:xfrm>
          <a:custGeom>
            <a:avLst/>
            <a:gdLst/>
            <a:ahLst/>
            <a:rect l="l" t="t" r="r" b="b"/>
            <a:pathLst>
              <a:path w="777" h="786">
                <a:moveTo>
                  <a:pt x="0" y="786"/>
                </a:moveTo>
                <a:lnTo>
                  <a:pt x="777" y="786"/>
                </a:lnTo>
                <a:lnTo>
                  <a:pt x="521" y="0"/>
                </a:lnTo>
                <a:lnTo>
                  <a:pt x="0" y="786"/>
                </a:lnTo>
                <a:close/>
              </a:path>
            </a:pathLst>
          </a:custGeom>
          <a:solidFill>
            <a:srgbClr val="00cc99">
              <a:alpha val="30000"/>
            </a:srgbClr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63840" y="548964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03680" y="384480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7240" y="4248000"/>
            <a:ext cx="14472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33680" y="4284720"/>
            <a:ext cx="1233720" cy="1247760"/>
          </a:xfrm>
          <a:custGeom>
            <a:avLst/>
            <a:gdLst/>
            <a:ahLst/>
            <a:rect l="l" t="t" r="r" b="b"/>
            <a:pathLst>
              <a:path w="777" h="786">
                <a:moveTo>
                  <a:pt x="0" y="786"/>
                </a:moveTo>
                <a:lnTo>
                  <a:pt x="777" y="786"/>
                </a:lnTo>
                <a:lnTo>
                  <a:pt x="521" y="0"/>
                </a:lnTo>
                <a:lnTo>
                  <a:pt x="0" y="786"/>
                </a:lnTo>
                <a:close/>
              </a:path>
            </a:pathLst>
          </a:custGeom>
          <a:solidFill>
            <a:srgbClr val="00cc99">
              <a:alpha val="30000"/>
            </a:srgbClr>
          </a:solidFill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97320" y="383220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22960" y="222876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40560" y="380988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547200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65600" y="551016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6400" y="550404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28880" y="3890880"/>
            <a:ext cx="7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75080" y="1359000"/>
                <a:ext cx="150948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473800" y="1365120"/>
                <a:ext cx="32763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79" name=""/>
          <p:cNvCxnSpPr/>
          <p:nvPr/>
        </p:nvCxnSpPr>
        <p:spPr>
          <a:xfrm>
            <a:off x="4084200" y="1796760"/>
            <a:ext cx="1389960" cy="68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121520" y="1427040"/>
                <a:ext cx="1405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719280"/>
            <a:ext cx="952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omplete with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to make a true state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2952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  In a _____________ translation, the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coordinate changes and the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coordinate stays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905120" y="1219320"/>
            <a:ext cx="14666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ertical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514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2.  In a _____________ translation, the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coordinate changes and the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coordinate stays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76520" y="2438280"/>
            <a:ext cx="1923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orizontal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800"/>
                            </p:stCondLst>
                            <p:childTnLst>
                              <p:par>
                                <p:cTn id="288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719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endpoints of a segment and a translation are given. Graph each segment and its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676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0, 0),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0, 5);  2 units le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905120" y="2590920"/>
            <a:ext cx="3885840" cy="3885840"/>
            <a:chOff x="1905120" y="2590920"/>
            <a:chExt cx="3885840" cy="3885840"/>
          </a:xfrm>
        </p:grpSpPr>
        <p:sp>
          <p:nvSpPr>
            <p:cNvPr id="191" name=""/>
            <p:cNvSpPr/>
            <p:nvPr/>
          </p:nvSpPr>
          <p:spPr>
            <a:xfrm>
              <a:off x="1905120" y="259092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8200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59600" y="2590920"/>
              <a:ext cx="38808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3648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137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51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05120" y="29793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05120" y="336816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5120" y="37566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41454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05120" y="453420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05120" y="49222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05120" y="53110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05120" y="569988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05120" y="60879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443400" y="2392200"/>
            <a:ext cx="0" cy="4281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12880" y="5675400"/>
            <a:ext cx="4281480" cy="1404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4480" y="56023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62400" y="36799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4480" y="56023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62400" y="36799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animMotion origin="layout" path="M -8.33333E-007 -4.45087E-006 L -0.08177 -4.45087E-006 E">
                                      <p:cBhvr>
                                        <p:cTn id="362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animMotion origin="layout" path="M 1.11111E-006 -4.45087E-006 L -0.08333 -4.45087E-006 E">
                                      <p:cBhvr>
                                        <p:cTn id="36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81  9 – 8 #1 – 11, 12 –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719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The endpoints of a segment and a translation are given. Graph each segment and its transl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676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4.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0, 0), 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0, 2);  2 units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905120" y="2590920"/>
            <a:ext cx="3885840" cy="3885840"/>
            <a:chOff x="1905120" y="2590920"/>
            <a:chExt cx="3885840" cy="3885840"/>
          </a:xfrm>
        </p:grpSpPr>
        <p:sp>
          <p:nvSpPr>
            <p:cNvPr id="216" name=""/>
            <p:cNvSpPr/>
            <p:nvPr/>
          </p:nvSpPr>
          <p:spPr>
            <a:xfrm>
              <a:off x="1905120" y="259092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8200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59600" y="2590920"/>
              <a:ext cx="38808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3648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137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05120" y="2590920"/>
              <a:ext cx="388440" cy="38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05120" y="29793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05120" y="336816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05120" y="37566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05120" y="414540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5120" y="453420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05120" y="49222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05120" y="531108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05120" y="5699880"/>
              <a:ext cx="3885840" cy="38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05120" y="6087960"/>
              <a:ext cx="3885840" cy="38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443400" y="2392200"/>
            <a:ext cx="0" cy="428148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12880" y="5675400"/>
            <a:ext cx="4281480" cy="14040"/>
          </a:xfrm>
          <a:prstGeom prst="line">
            <a:avLst/>
          </a:prstGeom>
          <a:ln w="572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4480" y="56023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60600" y="484200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54480" y="5602320"/>
            <a:ext cx="16020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60600" y="4842000"/>
            <a:ext cx="160560" cy="16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animMotion origin="layout" path="M 0.00069 0.00231 L 0.00069 -0.11075 E">
                                      <p:cBhvr>
                                        <p:cTn id="404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animMotion origin="layout" path="M 4.72222E-006 -3.00578E-006 L 4.72222E-006 -0.11306 E">
                                      <p:cBhvr>
                                        <p:cTn id="40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4:50:16Z</dcterms:created>
  <dc:creator>CCSS</dc:creator>
  <dc:description/>
  <dc:language>en-US</dc:language>
  <cp:lastModifiedBy>DAMON SKELTON</cp:lastModifiedBy>
  <dcterms:modified xsi:type="dcterms:W3CDTF">2004-02-26T04:24:31Z</dcterms:modified>
  <cp:revision>13</cp:revision>
  <dc:subject/>
  <dc:title>No Slide Title</dc:title>
</cp:coreProperties>
</file>